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move the slide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1B47-6748-48E3-B520-05A6A171C6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47A2-F058-4342-BA92-EF91317ABF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CD16-4DB8-4CC7-B97B-D599F73471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17AF-BC50-49A7-A2CF-081F18C72A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9D20-9FDB-4B01-A765-1CE3E02D1D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CB44-7C10-421B-8882-CD2D048B4A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3FEA-5BF5-4B91-AD00-2E189B6E98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12E1-727C-413D-A093-618AC2D1F5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C922-3DC1-4013-98E8-A43D1BA4B5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C086-6FB0-4075-B2D2-251341B8ED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FA08-6607-4E07-A85A-90344262F5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5A6A-C4EF-4D30-A3D6-483DDE77CD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B045B-379E-4705-B519-D54C672769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35C90-A62E-4055-A65B-496C0BC5DB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EFFF2-77C4-4114-A021-674E3B3446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06F61-2D99-4EBD-9150-D6DEABF6EB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FE1DD-A8F4-4695-B77F-4479E55FF2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C8E2E-18AE-4C0E-80AE-68D14C9A15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C2A59-3BB5-49DD-9B86-F5155287E0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C3B9A-CAFB-4492-AABF-0006C2E11F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3E939-A423-4731-8790-73410686D9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C0397-559B-45F6-A7EB-E06FB912C1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23009-089E-433C-A5A4-67E295A16A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7C940-20AF-4C91-B78B-7E71B936A1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2DD6A-12DB-49EE-B669-AF097E63AE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59E6A-0152-4F28-AD8C-5116954417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07D40-730D-4676-AED3-C99D10139F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E4290-ADB9-41CC-A014-52174100E3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BA434-17A8-4134-924F-ED2717DD51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F6398-8926-45CA-9AF9-37C419D966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85B5A-5F93-4038-B35A-8BCAECC0FE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09B08-85C4-4D95-94E4-D46B2A64B2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BCB11-AD19-4E64-B8CD-D6FDF61603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53ADB-C273-4C9C-9167-3B93D09A89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37C49-ADC5-4A02-89AA-061E5EBC54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B4155-E6EA-41F5-8A27-A0E541BE10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8840" y="-93600"/>
            <a:ext cx="2772720" cy="6950160"/>
            <a:chOff x="-7884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ad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5600" y="3922560"/>
              <a:ext cx="889560" cy="719640"/>
              <a:chOff x="7560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2492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8440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792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5084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6840" y="2601000"/>
              <a:ext cx="2687040" cy="3117960"/>
              <a:chOff x="684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945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1196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657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9100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1540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60040" y="4055040"/>
                <a:ext cx="1833840" cy="1663920"/>
                <a:chOff x="86004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972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3604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992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75560" y="6174000"/>
              <a:ext cx="790560" cy="634680"/>
              <a:chOff x="47556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2132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932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9420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25080" y="1775880"/>
              <a:ext cx="785160" cy="693360"/>
              <a:chOff x="32508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4708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70128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2392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301760" y="0"/>
              <a:ext cx="546480" cy="581400"/>
              <a:chOff x="130176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30176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5196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9220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4616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9168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3020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556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2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92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92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924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9168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908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8232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3636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92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9648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8100720" y="624348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1F6E-9831-4F86-8B80-678A67741C94}" type="slidenum">
              <a:rPr b="0" lang="en-GB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sldNum" idx="2"/>
          </p:nvPr>
        </p:nvSpPr>
        <p:spPr>
          <a:xfrm>
            <a:off x="7956720" y="6243480"/>
            <a:ext cx="86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A9DE-838F-4EF3-94F5-1996C6905B64}" type="slidenum">
              <a:rPr b="0" lang="en-GB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85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jpe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Why are certain farm products produced in particular areas?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E3502-4022-4E36-9C8F-DAED705732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People – google earth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176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red is dense population and light green is nearly as dense, going to royal blue and pink is definitely thin on the ground!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an you think of any reasons why a particular place in a particular colour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rcRect l="31742" t="9174" r="21748" b="0"/>
          <a:stretch/>
        </p:blipFill>
        <p:spPr>
          <a:xfrm>
            <a:off x="4660920" y="981000"/>
            <a:ext cx="4160880" cy="587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AB920-AA53-47D3-B376-2C84FF161F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Farming and People – google earth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4176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s there any kind of farming that you would expect to take place near centres of population? Why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y that don’t need to be near centres of population  - in the pink bits? Why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rcRect l="31742" t="9174" r="21748" b="0"/>
          <a:stretch/>
        </p:blipFill>
        <p:spPr>
          <a:xfrm>
            <a:off x="4660920" y="981000"/>
            <a:ext cx="4160880" cy="587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7816D-DA2C-40FA-85E9-0B1844BF7D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59770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Question is ….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5689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y is that type of farming growth where it is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s it to do with the landscap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s it to do with the temperature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Or is it to do with the rainfall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Or is it to do with amount of people living nearby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Or is it a combination of all of them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6300720" y="333360"/>
            <a:ext cx="2111400" cy="26956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8"/>
          <a:stretch/>
        </p:blipFill>
        <p:spPr>
          <a:xfrm>
            <a:off x="6659640" y="3500280"/>
            <a:ext cx="1647720" cy="224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016C3-7BAC-4C90-923B-A7BA0D6E31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59770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Doing it step by step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6697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ook at the dark green area – they are sheep and beef cattle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Go back to slide 6 – the climate graph. Also check out the WS – that has split that graph into 3 – one for rainfall – one for winter temps and one for summer temp – anything similar about the climate for all green areas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bout the relief map on slide 7? Anything special ther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bout the population density – anything interesting ther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6708600" y="333360"/>
            <a:ext cx="2111400" cy="26956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6"/>
          <a:stretch/>
        </p:blipFill>
        <p:spPr>
          <a:xfrm>
            <a:off x="7316640" y="3500280"/>
            <a:ext cx="1648080" cy="224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29389-FB38-4E27-8621-710B357265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59770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Doing it step by step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6697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ook at the yellow area – that is arable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Go back to slide 6 – the climate graph. – what can you tell me about that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bout the relief map on slide 7? Anything special ther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bout the population density – anything interesting ther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6708600" y="333360"/>
            <a:ext cx="2111400" cy="26956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7316640" y="3500280"/>
            <a:ext cx="1648080" cy="224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75F0C-5D81-4509-9DBD-ABED29CCDD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59770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Doing it step by step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6697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ook at the light green areas – that is dairy cattle – what are they for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Go back to slide 6 – the climate graph. – what can you tell me about that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bout the relief map on slide 7? Anything special ther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bout the population density – anything interesting ther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6708600" y="333360"/>
            <a:ext cx="2111400" cy="26956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6"/>
          <a:stretch/>
        </p:blipFill>
        <p:spPr>
          <a:xfrm>
            <a:off x="7316640" y="3500280"/>
            <a:ext cx="1648080" cy="224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B2B4B-F076-4DE5-AF05-E351F130B3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59770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Doing it step by step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6697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ook at the brown – that is mixed farming – what is that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Go back to slide 6 – the climate graph. – what can you tell me about that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bout the relief map on slide 7? Anything special ther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bout the population density – anything interesting ther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6708600" y="333360"/>
            <a:ext cx="2111400" cy="26956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7316640" y="3500280"/>
            <a:ext cx="1648080" cy="224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91F8B-1B6C-468C-B3B0-C1ABD915FF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59770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Doing it step by step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6697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ook at the pink – that is market gardening – what does that produc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Go back to slide 6 – the climate graph. – what can you tell me about that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bout the relief map on slide 7? Anything special ther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bout the population density – anything interesting ther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>
            <a:off x="6708600" y="333360"/>
            <a:ext cx="2111400" cy="26956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6"/>
          <a:stretch/>
        </p:blipFill>
        <p:spPr>
          <a:xfrm>
            <a:off x="7308720" y="3500280"/>
            <a:ext cx="1648080" cy="224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2EB8F-7FE4-43FB-85B8-6C4787D245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9280" y="102960"/>
            <a:ext cx="583272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Comic Sans MS"/>
              </a:rPr>
              <a:t>What kind of farm would it be?</a:t>
            </a:r>
            <a:endParaRPr b="0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5545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I will tell you what the farm is like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You tell me what it most likely produced there, using the more detailed map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3"/>
          <a:srcRect l="0" t="0" r="0" b="4370"/>
          <a:stretch/>
        </p:blipFill>
        <p:spPr>
          <a:xfrm>
            <a:off x="5667480" y="576360"/>
            <a:ext cx="3476520" cy="62816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rcRect l="0" t="4129" r="51804" b="75336"/>
          <a:stretch/>
        </p:blipFill>
        <p:spPr>
          <a:xfrm>
            <a:off x="5867280" y="44280"/>
            <a:ext cx="292284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DBB44-2D6E-4FC7-86FA-5D70A87275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Homework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5689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You will have this map and a link so you can look in more detai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You are told something about the people who are buying the 4 farm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You have to decide what they should produce and explain why. As these are imaginary, there are no correct answers, provided you make a good case for your choice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6021360" y="981000"/>
            <a:ext cx="2905200" cy="41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EC9D2-A74E-4A16-AD76-675C1CDE5A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I know that ….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..many of you guys do not come from the UK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ut the climate is quite different from area to another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d the landscape is variable too – some is flat and some is quite hilly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r these reasons, what is produced on farms varies quite a lot for such a small place – which makes a good place to look at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331EA-E2A6-4415-A04C-6309C98A15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Comic Sans MS"/>
              </a:rPr>
              <a:t>What is produced on farms in the UK</a:t>
            </a:r>
            <a:endParaRPr b="0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42433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is is what is produced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most often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in these area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rcRect l="0" t="0" r="7791" b="0"/>
          <a:stretch/>
        </p:blipFill>
        <p:spPr>
          <a:xfrm>
            <a:off x="4572000" y="1268280"/>
            <a:ext cx="3456000" cy="5040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1332000" y="2852640"/>
            <a:ext cx="2095560" cy="28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6A2A9-E2FE-4F41-B6C7-01161D32E2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rcRect l="0" t="0" r="51804" b="75336"/>
          <a:stretch/>
        </p:blipFill>
        <p:spPr>
          <a:xfrm>
            <a:off x="5292720" y="1711440"/>
            <a:ext cx="3354480" cy="2581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rcRect l="0" t="0" r="0" b="4370"/>
          <a:stretch/>
        </p:blipFill>
        <p:spPr>
          <a:xfrm>
            <a:off x="1417680" y="0"/>
            <a:ext cx="3781440" cy="68310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This is just to show you it not really as clear cut as the other map implies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FFA2B-7A50-4845-9FA4-D8DE79ECD6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Comic Sans MS"/>
              </a:rPr>
              <a:t>We are now going to work out what we think each types of farm needs</a:t>
            </a:r>
            <a:endParaRPr b="0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42433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is is what is produced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most often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in these area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rcRect l="0" t="0" r="7791" b="0"/>
          <a:stretch/>
        </p:blipFill>
        <p:spPr>
          <a:xfrm>
            <a:off x="4427640" y="1268280"/>
            <a:ext cx="3456000" cy="5040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484360" y="2781360"/>
            <a:ext cx="2333880" cy="35481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H="1">
            <a:off x="2124000" y="3500280"/>
            <a:ext cx="503280" cy="73080"/>
          </a:xfrm>
          <a:prstGeom prst="line">
            <a:avLst/>
          </a:prstGeom>
          <a:ln w="381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2124000" y="4005360"/>
            <a:ext cx="503280" cy="576000"/>
          </a:xfrm>
          <a:prstGeom prst="line">
            <a:avLst/>
          </a:prstGeom>
          <a:ln w="381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4960" y="2508480"/>
            <a:ext cx="1916280" cy="15440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Pastoral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Farming animals that are kept in field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2680" y="5481000"/>
            <a:ext cx="1797120" cy="3279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Horticultur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195280" y="5734080"/>
            <a:ext cx="431640" cy="0"/>
          </a:xfrm>
          <a:prstGeom prst="line">
            <a:avLst/>
          </a:prstGeom>
          <a:ln w="381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B932B-191E-401B-A390-BEC633DD10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50560" y="1052280"/>
            <a:ext cx="42433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76720" y="333360"/>
            <a:ext cx="208764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old winters (&lt;5</a:t>
            </a:r>
            <a:r>
              <a:rPr b="0" lang="en-US" sz="2800" spc="-1" strike="noStrike" baseline="30000">
                <a:solidFill>
                  <a:srgbClr val="006699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) and cool summers and drier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Cold winters and warm summers and drier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260280"/>
            <a:ext cx="266364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Mild winters (&gt;5</a:t>
            </a:r>
            <a:r>
              <a:rPr b="0" lang="en-US" sz="2400" spc="-1" strike="noStrike" baseline="30000">
                <a:solidFill>
                  <a:srgbClr val="006699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C) and cool summers (&lt;15</a:t>
            </a:r>
            <a:r>
              <a:rPr b="0" lang="en-US" sz="2400" spc="-1" strike="noStrike" baseline="30000">
                <a:solidFill>
                  <a:srgbClr val="006699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C) &amp; wett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Mild winters and warm summers (&gt;15</a:t>
            </a:r>
            <a:r>
              <a:rPr b="0" lang="en-US" sz="2400" spc="-1" strike="noStrike" baseline="30000">
                <a:solidFill>
                  <a:srgbClr val="006699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C) and wett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2130840"/>
            <a:ext cx="2446200" cy="914040"/>
          </a:xfrm>
          <a:prstGeom prst="roundRect">
            <a:avLst>
              <a:gd name="adj" fmla="val 16667"/>
            </a:avLst>
          </a:prstGeom>
          <a:solidFill>
            <a:srgbClr val="d7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If &gt;800 mm it is wet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3067920"/>
            <a:ext cx="2487600" cy="1319400"/>
          </a:xfrm>
          <a:prstGeom prst="roundRect">
            <a:avLst>
              <a:gd name="adj" fmla="val 16667"/>
            </a:avLst>
          </a:prstGeom>
          <a:solidFill>
            <a:srgbClr val="d7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Blue line is 5</a:t>
            </a:r>
            <a:r>
              <a:rPr b="0" lang="en-US" sz="2400" spc="-1" strike="noStrike" baseline="30000">
                <a:solidFill>
                  <a:srgbClr val="006699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C Jan line, E is cold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0"/>
          <a:stretch/>
        </p:blipFill>
        <p:spPr>
          <a:xfrm>
            <a:off x="3009960" y="163440"/>
            <a:ext cx="3795480" cy="5713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443640" y="2468520"/>
            <a:ext cx="2468520" cy="1724760"/>
          </a:xfrm>
          <a:prstGeom prst="roundRect">
            <a:avLst>
              <a:gd name="adj" fmla="val 16667"/>
            </a:avLst>
          </a:prstGeom>
          <a:solidFill>
            <a:srgbClr val="d7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red line is the 15</a:t>
            </a:r>
            <a:r>
              <a:rPr b="0" lang="en-US" sz="2400" spc="-1" strike="noStrike" baseline="30000">
                <a:solidFill>
                  <a:srgbClr val="006699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verage July temp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06E04-4895-4439-A3DE-407D9013D3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is is called a relief map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42433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But before we look at the relief or physical map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et’s just check you know where places are!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4788000" y="765000"/>
            <a:ext cx="3666960" cy="568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40961-2638-4A62-817A-1ED1EB6AB1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788000" y="1123920"/>
            <a:ext cx="3203640" cy="49690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537000" y="102960"/>
            <a:ext cx="53560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highest bit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520" y="691920"/>
            <a:ext cx="2535480" cy="57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ambrian Mountain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Exmoor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Dartmoor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Pennine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cottish Highland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outhern Upland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Lake District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4788000" y="4060080"/>
            <a:ext cx="431640" cy="652680"/>
          </a:xfrm>
          <a:prstGeom prst="wedgeEllipseCallout">
            <a:avLst>
              <a:gd name="adj1" fmla="val 258083"/>
              <a:gd name="adj2" fmla="val 71166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93080" y="2404440"/>
            <a:ext cx="504720" cy="652680"/>
          </a:xfrm>
          <a:prstGeom prst="wedgeEllipseCallout">
            <a:avLst>
              <a:gd name="adj1" fmla="val -237666"/>
              <a:gd name="adj2" fmla="val 78055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51640" y="3268080"/>
            <a:ext cx="432000" cy="652680"/>
          </a:xfrm>
          <a:prstGeom prst="wedgeEllipseCallout">
            <a:avLst>
              <a:gd name="adj1" fmla="val -241837"/>
              <a:gd name="adj2" fmla="val 73976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11640" y="3052080"/>
            <a:ext cx="431640" cy="652680"/>
          </a:xfrm>
          <a:prstGeom prst="wedgeEllipseCallout">
            <a:avLst>
              <a:gd name="adj1" fmla="val 450333"/>
              <a:gd name="adj2" fmla="val 48893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16360" y="2053440"/>
            <a:ext cx="432000" cy="652680"/>
          </a:xfrm>
          <a:prstGeom prst="wedgeEllipseCallout">
            <a:avLst>
              <a:gd name="adj1" fmla="val 268314"/>
              <a:gd name="adj2" fmla="val 495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95640" y="5860440"/>
            <a:ext cx="432000" cy="652680"/>
          </a:xfrm>
          <a:prstGeom prst="wedgeEllipseCallout">
            <a:avLst>
              <a:gd name="adj1" fmla="val 414277"/>
              <a:gd name="adj2" fmla="val -74805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40360" y="4996800"/>
            <a:ext cx="431640" cy="652680"/>
          </a:xfrm>
          <a:prstGeom prst="wedgeEllipseCallout">
            <a:avLst>
              <a:gd name="adj1" fmla="val 394416"/>
              <a:gd name="adj2" fmla="val 1681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0E847-ED43-4DFE-AB35-9336C45780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968720" y="1123920"/>
            <a:ext cx="3203640" cy="49690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537000" y="102960"/>
            <a:ext cx="53560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lowest bit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520" y="691920"/>
            <a:ext cx="2535480" cy="57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central lowlands of Scotland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Cheshire Plain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Fen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East Anglia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Midland Plain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4788000" y="4060080"/>
            <a:ext cx="431640" cy="652680"/>
          </a:xfrm>
          <a:prstGeom prst="wedgeEllipseCallout">
            <a:avLst>
              <a:gd name="adj1" fmla="val 473500"/>
              <a:gd name="adj2" fmla="val 85388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17080" y="4420440"/>
            <a:ext cx="504720" cy="652680"/>
          </a:xfrm>
          <a:prstGeom prst="wedgeEllipseCallout">
            <a:avLst>
              <a:gd name="adj1" fmla="val -171949"/>
              <a:gd name="adj2" fmla="val 22379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812000" y="3556800"/>
            <a:ext cx="432000" cy="652680"/>
          </a:xfrm>
          <a:prstGeom prst="wedgeEllipseCallout">
            <a:avLst>
              <a:gd name="adj1" fmla="val -128597"/>
              <a:gd name="adj2" fmla="val 118245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2980440"/>
            <a:ext cx="432000" cy="652680"/>
          </a:xfrm>
          <a:prstGeom prst="wedgeEllipseCallout">
            <a:avLst>
              <a:gd name="adj1" fmla="val 491879"/>
              <a:gd name="adj2" fmla="val 160856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88000" y="2259720"/>
            <a:ext cx="431640" cy="652680"/>
          </a:xfrm>
          <a:prstGeom prst="wedgeEllipseCallout">
            <a:avLst>
              <a:gd name="adj1" fmla="val 288916"/>
              <a:gd name="adj2" fmla="val 51046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6E271-149C-4EF7-8A05-6132D301A1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5:16:02Z</dcterms:created>
  <dc:creator>Lindy</dc:creator>
  <dc:description/>
  <dc:language>en-US</dc:language>
  <cp:lastModifiedBy>Lindy</cp:lastModifiedBy>
  <dcterms:modified xsi:type="dcterms:W3CDTF">2010-03-05T12:44:35Z</dcterms:modified>
  <cp:revision>8</cp:revision>
  <dc:subject/>
  <dc:title>Why are certain farm products produced in particular area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